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65C-6C8F-4900-954D-44FCA9B6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78F-C0F7-49AB-A029-B16804F3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15A-E472-4B94-A1F0-A8B3AD89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5D8-D675-4F2F-A508-EF6A50D3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DDA1-AB54-45A1-B454-0B12FE8C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47C3-E892-4898-99B0-F3D0DE3E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B6EE-7060-4F81-9003-0E955A3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D594-1592-4482-961C-120FAAB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67E8-D8DD-4F2A-A356-AA183F8B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BF1C-EF8B-4012-9671-AC5EEB8D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65FD-BA68-427D-A166-072B01A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40C-E168-4273-81A8-9BE8A84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5E85-5E03-475C-B045-BCE92D59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2FE7-9906-4C5C-AF86-C412969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2E6F-ED14-482E-8D2D-D4D1B9F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D31-C2B6-41B0-9352-E394D27A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4DE1-1396-46D7-87E3-64ED2742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F2D-FFE3-43F5-A2E7-74696B61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941-9A85-4862-813D-4F63759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3B0-09B3-43B3-90D9-3F1EB5CE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E47-A0EE-4A54-8708-6DAFF2A7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47B-7F6C-4390-9E76-12FD8E1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194-EC1B-47CC-9362-7FE5047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552-6D8A-46ED-84D4-AA4BD26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612-DD35-4E8D-BD9E-29E4342BD7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A4D1-B0D4-435E-947B-69A904ED64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urlz MT"/>
              </a:rPr>
              <a:t>Grade 8 Science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ing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18669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059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bert Hooke (1635 – 170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t microscopes                             and observ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served tiny box                              like compartments in cork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2467080" cy="3105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ert Hooke (1635 – 170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d these small                     structures as                         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ula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, meaning                      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ttle room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in Lat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 day called                       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44373" b="0"/>
          <a:stretch/>
        </p:blipFill>
        <p:spPr>
          <a:xfrm>
            <a:off x="5943600" y="3048120"/>
            <a:ext cx="27432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esco Red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alian physic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rried out controlled experiment to prove maggots (baby flies) came from living flies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esco Redi’s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562360" cy="2706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48769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t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ve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r =  no maggo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23880" y="5029200"/>
            <a:ext cx="83844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t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cove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rs = maggo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477120" y="4952880"/>
            <a:ext cx="83808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533412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living things are composed of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e or more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lls are the basic units of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ucture and function in al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cells come from previously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isting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tivity of an entire organism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pends on the total activity of i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t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New Century Schoolbook"/>
              </a:rPr>
              <a:t>Chapter 1.1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8195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New Century Schoolbook"/>
              </a:rPr>
              <a:t>Microscop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New Century Schoolbook"/>
              </a:rPr>
              <a:t>an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New Century Schoolbook"/>
              </a:rPr>
              <a:t>Cel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ton van Leeuwenhoek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ff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utch merch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nd small lenses to make first “microscope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Early Microscop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4343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n Leeuwenho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rca 16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087640" cy="5702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24080" y="3886200"/>
            <a:ext cx="27432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to observe single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895480" cy="2000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Early Microscop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76201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n Leeuwenhoek was the first to observe small organisms made up of only on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led these                        organisms                    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imalcul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Van Leeuwenhoek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014720" cy="321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Early Microscop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845080" cy="439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6160" y="1143000"/>
            <a:ext cx="337032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165800" y="1219320"/>
            <a:ext cx="11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irc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18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Microscopes Today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und Light Microscopes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lenses with               magnification of up                       to 2000 times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000x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90512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Parts of a Microscope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10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Microscopes Today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76201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Microscopes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ams of electrons are       bounced off the sample,           then enlar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rn scopes can                   magnify up to                                  2 000 000 times!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09:42Z</dcterms:created>
  <dc:creator>Jeff Whipple</dc:creator>
  <dc:description/>
  <dc:language>en-US</dc:language>
  <cp:lastModifiedBy>Administrator</cp:lastModifiedBy>
  <dcterms:modified xsi:type="dcterms:W3CDTF">2006-01-10T17:10:42Z</dcterms:modified>
  <cp:revision>10</cp:revision>
  <dc:subject/>
  <dc:title>Grade 8 Science</dc:title>
</cp:coreProperties>
</file>